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B84-30EC-4BD9-B870-68CABB87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447-4174-4BFF-8ACA-23737C0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2F8-8669-44B5-AE8D-4366C3AD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59F-D2AE-406D-9D34-77E40EEC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9D0-5058-4212-8F4C-2AC7E7EB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701-5BEE-401D-8BE7-7E8E09A5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1BC-7A73-41A1-A577-988F68C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772-17F5-4F27-8DF8-18E4DE16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115-89CE-487A-B68F-67953365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A5E-C4E1-4CAF-897A-1DEA7C1D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651-0937-4FD8-B00C-4DDC756C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1CE-16F5-4F42-BE37-C071563C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4928-A20A-47C3-B8C3-ABF1F5BCD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U CONTRÔ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1722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54864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8006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343400"/>
            <a:ext cx="9906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second degré (audit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812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5812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5812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5812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954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954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8954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8954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96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2096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2096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22096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066680"/>
            <a:ext cx="9906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premier degré (opérationn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1676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ture du ris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685800"/>
            <a:ext cx="1676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esponsabl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685800"/>
            <a:ext cx="1981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685800"/>
            <a:ext cx="2438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estinataires des résultats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685800"/>
            <a:ext cx="2133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réquenc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581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895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209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38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5238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15238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15238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1523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8:28Z</dcterms:modified>
  <cp:revision>70</cp:revision>
  <dc:subject/>
  <dc:title>Contrôle interne des risques</dc:title>
</cp:coreProperties>
</file>